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F75-77BA-4D84-A604-6BB42DEF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86D-3CD0-4346-B409-8FCFF3AC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A3D-5343-4C3B-B0F9-A252B17B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9D6-2809-455F-9964-17DB3CB8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2025-2FC6-450A-9875-2F7C58A4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E406-5BBE-41AF-96DF-378AE778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6373-D10B-465E-94B5-8DDFA8DF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D673-BF3F-46BE-915C-AC07BE3C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33DC-B58E-424E-AA32-862ED24F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2F3F-519F-45A3-AB28-E0B24C6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09BB-1B54-42A8-8A91-07B77897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86E-B349-463F-BB08-76B41D4E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D0C2-BDE0-4995-B82D-539714C8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99B6-A99B-4851-9B6E-CAFB9544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E48F-8B4A-4F4B-BE11-E0F22E14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55E6-BF2A-42D8-8CEF-79BC952B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37EF-C52D-4528-B177-04C5A7FD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CEF-4732-4647-85BC-E84C21F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CAC-ABFB-487C-9F3A-A99156E8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D7D-0C3A-44D3-B817-927767CD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DB6-D119-418F-982A-76866CE7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CBE-5B09-4440-8287-905AFF9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817-8F05-4B63-B420-69996C23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BB6-763C-4D94-A366-AF50F491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CC2C-73D2-4078-9624-6A7779FCB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E92F-9185-4641-AD2D-982ED2A29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«Влияние погодных условий на здоровье человек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01:09:06Z</dcterms:created>
  <dc:creator> </dc:creator>
  <dc:description/>
  <dc:language>en-US</dc:language>
  <cp:lastModifiedBy> </cp:lastModifiedBy>
  <dcterms:modified xsi:type="dcterms:W3CDTF">2008-04-12T07:43:12Z</dcterms:modified>
  <cp:revision>5</cp:revision>
  <dc:subject/>
  <dc:title>Влияние погодных условий на здоровье человека</dc:title>
</cp:coreProperties>
</file>